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DF75-2AC3-41D6-ABE7-68CC1DD4D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7F07-A4E9-447F-A0D3-CE633630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4EB6-A524-40D9-A829-C83703DE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27C9-2ACF-4EB0-9D95-46BCF8181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B0D9-6F7E-4276-9CD0-4DE565D2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855E-D8C8-4DD9-A7FF-3AE4BCA5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638B-6651-49AC-B476-652EB528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09A3-68F9-455B-8F27-629653E0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DF8D-3DA1-4D3D-98CD-F63BC2E7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48A8-B31A-49F0-A804-04F80538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1635-5BBB-405C-A003-84EC1A84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E860-E697-438A-BD1B-7FBE9F66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0103-9504-4146-8115-8427AA8E6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trany.bmp"/>
          <p:cNvPicPr/>
          <p:nvPr/>
        </p:nvPicPr>
        <p:blipFill>
          <a:blip r:embed="rId1"/>
          <a:stretch/>
        </p:blipFill>
        <p:spPr>
          <a:xfrm>
            <a:off x="685800" y="1828800"/>
            <a:ext cx="5357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ontent Placeholder 3" descr="Old-Woman-With-Pearls-500x750.jpg"/>
          <p:cNvPicPr/>
          <p:nvPr/>
        </p:nvPicPr>
        <p:blipFill>
          <a:blip r:embed="rId1"/>
          <a:stretch/>
        </p:blipFill>
        <p:spPr>
          <a:xfrm>
            <a:off x="914400" y="914400"/>
            <a:ext cx="4994280" cy="73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3" descr="young boy.jpg"/>
          <p:cNvPicPr/>
          <p:nvPr/>
        </p:nvPicPr>
        <p:blipFill>
          <a:blip r:embed="rId1"/>
          <a:stretch/>
        </p:blipFill>
        <p:spPr>
          <a:xfrm>
            <a:off x="1295280" y="1523880"/>
            <a:ext cx="4297320" cy="64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3" descr="cleaner-housewife-g.jpg"/>
          <p:cNvPicPr/>
          <p:nvPr/>
        </p:nvPicPr>
        <p:blipFill>
          <a:blip r:embed="rId1"/>
          <a:stretch/>
        </p:blipFill>
        <p:spPr>
          <a:xfrm>
            <a:off x="1066680" y="990720"/>
            <a:ext cx="4786560" cy="71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7T17:37:44Z</dcterms:created>
  <dc:creator>Halley</dc:creator>
  <dc:description/>
  <dc:language>en-US</dc:language>
  <cp:lastModifiedBy>Halley</cp:lastModifiedBy>
  <dcterms:modified xsi:type="dcterms:W3CDTF">2009-06-24T03:40:57Z</dcterms:modified>
  <cp:revision>2</cp:revision>
  <dc:subject/>
  <dc:title>Slide 1</dc:title>
</cp:coreProperties>
</file>